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809A-94A4-4846-8393-114380DC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EDEE-1D8A-4B7C-AFDC-0058C84D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24D4-01B0-4F79-9D7C-8DA78DB1D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566F-06FC-40E4-A225-B0636DA8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F5D3-73E6-4972-90C7-F524C1CE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ACF2-82C6-433F-881F-FD4455F7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4CC3-EE43-4358-9A33-97212968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FA7B-A010-49A0-BFC5-8D6A1B2C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2682-E5DA-4390-9683-51D8328D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0C41-8D17-4101-965D-3253D7DD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8208-211E-4FAA-8AAA-5EF869FB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93DC-E7EC-4BD7-A4E9-26334B21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3FFF-EC38-4458-A96D-CA9C31AF5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5000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n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Ryan Donahue and Emma Smy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1066 0.018 -0.02131 0.023 -0.02131 C 0.054 -0.02131 0.086 0.1452 0.086 0.31171 C 0.086 0.22779 0.102 0.1452 0.117 0.1452 C 0.133 0.1452 0.148 0.22912 0.148 0.31171 C 0.148 0.27041 0.156 0.22779 0.164 0.22779 C 0.172 0.22779 0.18 0.26909 0.18 0.31171 C 0.18 0.2904 0.184 0.27041 0.188 0.27041 C 0.192 0.27041 0.196 0.29172 0.196 0.31171 C 0.196 0.30105 0.198 0.2904 0.2 0.2904 C 0.201 0.2904 0.204 0.30106 0.204 0.31171 C 0.204 0.30638 0.205 0.30105 0.206 0.30105 C 0.206 0.30238 0.208 0.30638 0.208 0.31171 C 0.208 0.30905 0.208 0.30638 0.209 0.30638 C 0.209 0.30771 0.21 0.30904 0.21 0.31171 C 0.21 0.31038 0.21 0.30905 0.21 0.30771 C 0.211 0.30771 0.211 0.30904 0.211 0.31037 C 0.212 0.31037 0.212 0.30904 0.212 0.30771 C 0.213 0.30771 0.213 0.30904 0.213 0.31037 E">
                                      <p:cBhvr>
                                        <p:cTn id="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ood of Russian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23920" y="12193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re are rivers that you can travel and ship go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ny railroads to get from place to place very fast from Mosc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313760" y="5708520"/>
            <a:ext cx="183024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5 0.01711 L -0.9415 0.02821 E">
                                      <p:cBhvr>
                                        <p:cTn id="12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1:36:06Z</dcterms:created>
  <dc:creator> </dc:creator>
  <dc:description/>
  <dc:language>en-US</dc:language>
  <cp:lastModifiedBy> </cp:lastModifiedBy>
  <dcterms:modified xsi:type="dcterms:W3CDTF">2010-12-14T11:55:52Z</dcterms:modified>
  <cp:revision>2</cp:revision>
  <dc:subject/>
  <dc:title>Russian Movement</dc:title>
</cp:coreProperties>
</file>